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9F298-B769-4139-AAA2-4C3403B3261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灯片编号占位符 3"/>
          <p:cNvSpPr/>
          <p:nvPr/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1AC0-76C7-4A2D-9658-D3FABB228E0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4612-AE70-454F-95CF-4A591A17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6517-67AA-4FC4-8B17-76A12244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56CF-8D9C-4094-86DB-B9F65063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45A-A638-4FE8-9EFD-0811B64F5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C284-D643-4E08-976E-77CF3280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A7C1-7884-4327-B3C7-4207B59A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D05F-4144-43AF-AF97-9EB10F53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1AF-2805-4076-8404-36FC2FBB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023A-E700-4273-8BFD-AA3058BB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C25C-6995-4421-A3BF-04E5F03D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7FAC-B8C9-4D69-9329-596FC4F6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4639-A349-4DCF-B979-0CFE97BE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5589C-443D-46D8-BABA-E7D21760F5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12.xm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SubTitle_1">
            <a:hlinkClick r:id="rId2" action="ppaction://hlinksldjump"/>
          </p:cNvPr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SubTitle_2">
            <a:hlinkClick r:id="rId3" action="ppaction://hlinksldjump"/>
          </p:cNvPr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SubTitle_3">
            <a:hlinkClick r:id="rId4" action="ppaction://hlinksldjump"/>
          </p:cNvPr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noFill/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MH_SubTitle_4">
            <a:hlinkClick r:id="rId5" action="ppaction://hlinksldjump"/>
          </p:cNvPr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5" name="MH_Other_7" descr=""/>
            <p:cNvPicPr/>
            <p:nvPr/>
          </p:nvPicPr>
          <p:blipFill>
            <a:blip r:embed="rId6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9" name="MH_Other_9" descr=""/>
            <p:cNvPicPr/>
            <p:nvPr/>
          </p:nvPicPr>
          <p:blipFill>
            <a:blip r:embed="rId7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MH_Other_11" descr=""/>
          <p:cNvPicPr/>
          <p:nvPr/>
        </p:nvPicPr>
        <p:blipFill>
          <a:blip r:embed="rId8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1975320" y="3238920"/>
            <a:ext cx="4921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黑体"/>
                <a:ea typeface="黑体"/>
              </a:rPr>
              <a:t>17.4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 </a:t>
            </a:r>
            <a:r>
              <a:rPr b="0" lang="zh-CN" sz="4400" spc="-1" strike="noStrike">
                <a:solidFill>
                  <a:srgbClr val="cc0066"/>
                </a:solidFill>
                <a:latin typeface="黑体"/>
                <a:ea typeface="黑体"/>
              </a:rPr>
              <a:t>直角三角形全等的判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1643040"/>
            <a:ext cx="896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七章 特殊三角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324000" y="620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 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中，已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BC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CB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492360" y="5877000"/>
            <a:ext cx="360" cy="360"/>
            <a:chOff x="3492360" y="5877000"/>
            <a:chExt cx="360" cy="360"/>
          </a:xfrm>
        </p:grpSpPr>
        <p:sp>
          <p:nvSpPr>
            <p:cNvPr id="206" name="Line 19"/>
            <p:cNvSpPr/>
            <p:nvPr/>
          </p:nvSpPr>
          <p:spPr>
            <a:xfrm>
              <a:off x="3492360" y="5877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3492360" y="5877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22"/>
          <p:cNvGrpSpPr/>
          <p:nvPr/>
        </p:nvGrpSpPr>
        <p:grpSpPr>
          <a:xfrm>
            <a:off x="5289480" y="1197000"/>
            <a:ext cx="3890160" cy="3767760"/>
            <a:chOff x="5289480" y="1197000"/>
            <a:chExt cx="3890160" cy="3767760"/>
          </a:xfrm>
        </p:grpSpPr>
        <p:grpSp>
          <p:nvGrpSpPr>
            <p:cNvPr id="209" name="Group 3"/>
            <p:cNvGrpSpPr/>
            <p:nvPr/>
          </p:nvGrpSpPr>
          <p:grpSpPr>
            <a:xfrm>
              <a:off x="5289480" y="1197000"/>
              <a:ext cx="3890160" cy="3767760"/>
              <a:chOff x="5289480" y="1197000"/>
              <a:chExt cx="3890160" cy="3767760"/>
            </a:xfrm>
          </p:grpSpPr>
          <p:grpSp>
            <p:nvGrpSpPr>
              <p:cNvPr id="210" name="Group 5"/>
              <p:cNvGrpSpPr/>
              <p:nvPr/>
            </p:nvGrpSpPr>
            <p:grpSpPr>
              <a:xfrm>
                <a:off x="5289480" y="1197000"/>
                <a:ext cx="3890160" cy="3767760"/>
                <a:chOff x="5289480" y="1197000"/>
                <a:chExt cx="3890160" cy="3767760"/>
              </a:xfrm>
            </p:grpSpPr>
            <p:grpSp>
              <p:nvGrpSpPr>
                <p:cNvPr id="211" name="Group 6"/>
                <p:cNvGrpSpPr/>
                <p:nvPr/>
              </p:nvGrpSpPr>
              <p:grpSpPr>
                <a:xfrm>
                  <a:off x="5793120" y="1628640"/>
                  <a:ext cx="2737080" cy="3067560"/>
                  <a:chOff x="5793120" y="1628640"/>
                  <a:chExt cx="2737080" cy="3067560"/>
                </a:xfrm>
              </p:grpSpPr>
              <p:sp>
                <p:nvSpPr>
                  <p:cNvPr id="212" name="AutoShape 7"/>
                  <p:cNvSpPr/>
                  <p:nvPr/>
                </p:nvSpPr>
                <p:spPr>
                  <a:xfrm>
                    <a:off x="5793480" y="1628640"/>
                    <a:ext cx="2736720" cy="306756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5793120" y="3737160"/>
                    <a:ext cx="2316240" cy="958680"/>
                    <a:chOff x="5793120" y="3737160"/>
                    <a:chExt cx="2316240" cy="958680"/>
                  </a:xfrm>
                </p:grpSpPr>
                <p:sp>
                  <p:nvSpPr>
                    <p:cNvPr id="214" name="Line 8"/>
                    <p:cNvSpPr/>
                    <p:nvPr/>
                  </p:nvSpPr>
                  <p:spPr>
                    <a:xfrm flipV="1">
                      <a:off x="5793480" y="3737160"/>
                      <a:ext cx="2315880" cy="9586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 txBox="1"/>
                    <p:nvPr/>
                  </p:nvSpPr>
                  <p:spPr>
                    <a:xfrm rot="10800000">
                      <a:off x="5793120" y="3737160"/>
                      <a:ext cx="2315880" cy="958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6214680" y="3737160"/>
                    <a:ext cx="2315520" cy="958680"/>
                    <a:chOff x="6214680" y="3737160"/>
                    <a:chExt cx="2315520" cy="958680"/>
                  </a:xfrm>
                </p:grpSpPr>
                <p:sp>
                  <p:nvSpPr>
                    <p:cNvPr id="217" name="Line 9"/>
                    <p:cNvSpPr/>
                    <p:nvPr/>
                  </p:nvSpPr>
                  <p:spPr>
                    <a:xfrm flipH="1" flipV="1">
                      <a:off x="6214680" y="3737160"/>
                      <a:ext cx="2315520" cy="9586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 txBox="1"/>
                    <p:nvPr/>
                  </p:nvSpPr>
                  <p:spPr>
                    <a:xfrm rot="10800000">
                      <a:off x="6214680" y="3737160"/>
                      <a:ext cx="2315520" cy="958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9" name="Text Box 10"/>
                <p:cNvSpPr/>
                <p:nvPr/>
              </p:nvSpPr>
              <p:spPr>
                <a:xfrm>
                  <a:off x="6741000" y="1197000"/>
                  <a:ext cx="736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 Box 11"/>
                <p:cNvSpPr/>
                <p:nvPr/>
              </p:nvSpPr>
              <p:spPr>
                <a:xfrm>
                  <a:off x="5289480" y="4505040"/>
                  <a:ext cx="736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 Box 12"/>
                <p:cNvSpPr/>
                <p:nvPr/>
              </p:nvSpPr>
              <p:spPr>
                <a:xfrm>
                  <a:off x="8548200" y="4365000"/>
                  <a:ext cx="631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15"/>
              <p:cNvSpPr/>
              <p:nvPr/>
            </p:nvSpPr>
            <p:spPr>
              <a:xfrm>
                <a:off x="5754240" y="3340080"/>
                <a:ext cx="63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Text Box 16"/>
              <p:cNvSpPr/>
              <p:nvPr/>
            </p:nvSpPr>
            <p:spPr>
              <a:xfrm>
                <a:off x="8116200" y="3402000"/>
                <a:ext cx="525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矩形 20"/>
            <p:cNvSpPr/>
            <p:nvPr/>
          </p:nvSpPr>
          <p:spPr>
            <a:xfrm rot="11998800">
              <a:off x="6175800" y="3779280"/>
              <a:ext cx="232920" cy="19080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矩形 21"/>
            <p:cNvSpPr/>
            <p:nvPr/>
          </p:nvSpPr>
          <p:spPr>
            <a:xfrm rot="9618000">
              <a:off x="7909920" y="3782880"/>
              <a:ext cx="251640" cy="2131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21"/>
          <p:cNvSpPr/>
          <p:nvPr/>
        </p:nvSpPr>
        <p:spPr>
          <a:xfrm>
            <a:off x="468360" y="184464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证明：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E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 °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1476360" y="285264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3"/>
          <p:cNvGrpSpPr/>
          <p:nvPr/>
        </p:nvGrpSpPr>
        <p:grpSpPr>
          <a:xfrm>
            <a:off x="1521000" y="3357720"/>
            <a:ext cx="5787720" cy="984240"/>
            <a:chOff x="1521000" y="3357720"/>
            <a:chExt cx="5787720" cy="984240"/>
          </a:xfrm>
        </p:grpSpPr>
        <p:sp>
          <p:nvSpPr>
            <p:cNvPr id="229" name="Text Box 23"/>
            <p:cNvSpPr/>
            <p:nvPr/>
          </p:nvSpPr>
          <p:spPr>
            <a:xfrm>
              <a:off x="1521000" y="3357720"/>
              <a:ext cx="57877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CE=BD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BC=CB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24"/>
            <p:cNvSpPr/>
            <p:nvPr/>
          </p:nvSpPr>
          <p:spPr>
            <a:xfrm>
              <a:off x="1728720" y="3519360"/>
              <a:ext cx="223560" cy="637560"/>
            </a:xfrm>
            <a:custGeom>
              <a:avLst/>
              <a:gdLst>
                <a:gd name="textAreaLeft" fmla="*/ 142920 w 223560"/>
                <a:gd name="textAreaRight" fmla="*/ 223920 w 223560"/>
                <a:gd name="textAreaTop" fmla="*/ 16560 h 637560"/>
                <a:gd name="textAreaBottom" fmla="*/ 621000 h 63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8"/>
                    <a:pt x="10800" y="1795"/>
                  </a:cubicBezTo>
                  <a:lnTo>
                    <a:pt x="10800" y="9005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8"/>
                    <a:pt x="10800" y="12595"/>
                  </a:cubicBezTo>
                  <a:lnTo>
                    <a:pt x="10800" y="19805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30"/>
          <p:cNvSpPr/>
          <p:nvPr/>
        </p:nvSpPr>
        <p:spPr>
          <a:xfrm>
            <a:off x="971640" y="429264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EBC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C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(H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33"/>
          <p:cNvGrpSpPr/>
          <p:nvPr/>
        </p:nvGrpSpPr>
        <p:grpSpPr>
          <a:xfrm>
            <a:off x="3851280" y="2637000"/>
            <a:ext cx="5616000" cy="3168360"/>
            <a:chOff x="3851280" y="2637000"/>
            <a:chExt cx="5616000" cy="3168360"/>
          </a:xfrm>
        </p:grpSpPr>
        <p:grpSp>
          <p:nvGrpSpPr>
            <p:cNvPr id="233" name="Group 21"/>
            <p:cNvGrpSpPr/>
            <p:nvPr/>
          </p:nvGrpSpPr>
          <p:grpSpPr>
            <a:xfrm>
              <a:off x="3851280" y="2637000"/>
              <a:ext cx="5616000" cy="3168360"/>
              <a:chOff x="3851280" y="2637000"/>
              <a:chExt cx="5616000" cy="3168360"/>
            </a:xfrm>
          </p:grpSpPr>
          <p:sp>
            <p:nvSpPr>
              <p:cNvPr id="234" name="Text Box 22"/>
              <p:cNvSpPr/>
              <p:nvPr/>
            </p:nvSpPr>
            <p:spPr>
              <a:xfrm>
                <a:off x="3851280" y="4032360"/>
                <a:ext cx="750240" cy="50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23"/>
              <p:cNvSpPr/>
              <p:nvPr/>
            </p:nvSpPr>
            <p:spPr>
              <a:xfrm>
                <a:off x="7164000" y="3717720"/>
                <a:ext cx="750240" cy="50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24"/>
              <p:cNvSpPr/>
              <p:nvPr/>
            </p:nvSpPr>
            <p:spPr>
              <a:xfrm>
                <a:off x="8717040" y="3911760"/>
                <a:ext cx="750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 Box 25"/>
              <p:cNvSpPr/>
              <p:nvPr/>
            </p:nvSpPr>
            <p:spPr>
              <a:xfrm>
                <a:off x="5290920" y="4141440"/>
                <a:ext cx="749880" cy="50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26"/>
              <p:cNvSpPr/>
              <p:nvPr/>
            </p:nvSpPr>
            <p:spPr>
              <a:xfrm>
                <a:off x="5736960" y="5299920"/>
                <a:ext cx="749880" cy="50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27"/>
              <p:cNvSpPr/>
              <p:nvPr/>
            </p:nvSpPr>
            <p:spPr>
              <a:xfrm>
                <a:off x="7176240" y="2637000"/>
                <a:ext cx="750240" cy="50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31"/>
            <p:cNvGrpSpPr/>
            <p:nvPr/>
          </p:nvGrpSpPr>
          <p:grpSpPr>
            <a:xfrm>
              <a:off x="4066920" y="2779200"/>
              <a:ext cx="4674600" cy="2674800"/>
              <a:chOff x="4066920" y="2779200"/>
              <a:chExt cx="4674600" cy="2674800"/>
            </a:xfrm>
          </p:grpSpPr>
          <p:grpSp>
            <p:nvGrpSpPr>
              <p:cNvPr id="241" name="Group 5"/>
              <p:cNvGrpSpPr/>
              <p:nvPr/>
            </p:nvGrpSpPr>
            <p:grpSpPr>
              <a:xfrm>
                <a:off x="4066920" y="2779200"/>
                <a:ext cx="3089160" cy="1339560"/>
                <a:chOff x="4066920" y="2779200"/>
                <a:chExt cx="3089160" cy="1339560"/>
              </a:xfrm>
            </p:grpSpPr>
            <p:grpSp>
              <p:nvGrpSpPr>
                <p:cNvPr id="242" name="Group 6"/>
                <p:cNvGrpSpPr/>
                <p:nvPr/>
              </p:nvGrpSpPr>
              <p:grpSpPr>
                <a:xfrm>
                  <a:off x="4066920" y="2779200"/>
                  <a:ext cx="3089160" cy="1339560"/>
                  <a:chOff x="4066920" y="2779200"/>
                  <a:chExt cx="3089160" cy="1339560"/>
                </a:xfrm>
              </p:grpSpPr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7155720" y="2779560"/>
                    <a:ext cx="360" cy="1338840"/>
                    <a:chOff x="7155720" y="2779560"/>
                    <a:chExt cx="360" cy="1338840"/>
                  </a:xfrm>
                </p:grpSpPr>
                <p:sp>
                  <p:nvSpPr>
                    <p:cNvPr id="244" name="Line 7"/>
                    <p:cNvSpPr/>
                    <p:nvPr/>
                  </p:nvSpPr>
                  <p:spPr>
                    <a:xfrm>
                      <a:off x="7155720" y="2779560"/>
                      <a:ext cx="0" cy="1338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 txBox="1"/>
                    <p:nvPr/>
                  </p:nvSpPr>
                  <p:spPr>
                    <a:xfrm>
                      <a:off x="7155720" y="2779560"/>
                      <a:ext cx="360" cy="1338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4066920" y="4118400"/>
                    <a:ext cx="3088800" cy="360"/>
                    <a:chOff x="4066920" y="4118400"/>
                    <a:chExt cx="3088800" cy="360"/>
                  </a:xfrm>
                </p:grpSpPr>
                <p:sp>
                  <p:nvSpPr>
                    <p:cNvPr id="247" name="Line 8"/>
                    <p:cNvSpPr/>
                    <p:nvPr/>
                  </p:nvSpPr>
                  <p:spPr>
                    <a:xfrm flipH="1">
                      <a:off x="4066920" y="4118400"/>
                      <a:ext cx="3088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 txBox="1"/>
                    <p:nvPr/>
                  </p:nvSpPr>
                  <p:spPr>
                    <a:xfrm>
                      <a:off x="4066920" y="4118400"/>
                      <a:ext cx="308880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9" name=""/>
                  <p:cNvGrpSpPr/>
                  <p:nvPr/>
                </p:nvGrpSpPr>
                <p:grpSpPr>
                  <a:xfrm>
                    <a:off x="4066920" y="2779200"/>
                    <a:ext cx="3088800" cy="1338840"/>
                    <a:chOff x="4066920" y="2779200"/>
                    <a:chExt cx="3088800" cy="1338840"/>
                  </a:xfrm>
                </p:grpSpPr>
                <p:sp>
                  <p:nvSpPr>
                    <p:cNvPr id="250" name="Line 9"/>
                    <p:cNvSpPr/>
                    <p:nvPr/>
                  </p:nvSpPr>
                  <p:spPr>
                    <a:xfrm flipV="1">
                      <a:off x="4066920" y="2779200"/>
                      <a:ext cx="3088800" cy="1338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 txBox="1"/>
                    <p:nvPr/>
                  </p:nvSpPr>
                  <p:spPr>
                    <a:xfrm rot="10800000">
                      <a:off x="4066920" y="2779200"/>
                      <a:ext cx="3088800" cy="1338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2" name="Group 10"/>
                <p:cNvGrpSpPr/>
                <p:nvPr/>
              </p:nvGrpSpPr>
              <p:grpSpPr>
                <a:xfrm>
                  <a:off x="6876000" y="3873960"/>
                  <a:ext cx="255240" cy="222480"/>
                  <a:chOff x="6876000" y="3873960"/>
                  <a:chExt cx="255240" cy="222480"/>
                </a:xfrm>
              </p:grpSpPr>
              <p:grpSp>
                <p:nvGrpSpPr>
                  <p:cNvPr id="253" name=""/>
                  <p:cNvGrpSpPr/>
                  <p:nvPr/>
                </p:nvGrpSpPr>
                <p:grpSpPr>
                  <a:xfrm>
                    <a:off x="6876000" y="3873960"/>
                    <a:ext cx="360" cy="222480"/>
                    <a:chOff x="6876000" y="3873960"/>
                    <a:chExt cx="360" cy="222480"/>
                  </a:xfrm>
                </p:grpSpPr>
                <p:sp>
                  <p:nvSpPr>
                    <p:cNvPr id="254" name="Line 11"/>
                    <p:cNvSpPr/>
                    <p:nvPr/>
                  </p:nvSpPr>
                  <p:spPr>
                    <a:xfrm>
                      <a:off x="6876000" y="3873960"/>
                      <a:ext cx="0" cy="2224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 txBox="1"/>
                    <p:nvPr/>
                  </p:nvSpPr>
                  <p:spPr>
                    <a:xfrm>
                      <a:off x="6876000" y="3873960"/>
                      <a:ext cx="360" cy="222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6" name=""/>
                  <p:cNvGrpSpPr/>
                  <p:nvPr/>
                </p:nvGrpSpPr>
                <p:grpSpPr>
                  <a:xfrm>
                    <a:off x="6876000" y="3873960"/>
                    <a:ext cx="255240" cy="360"/>
                    <a:chOff x="6876000" y="3873960"/>
                    <a:chExt cx="255240" cy="360"/>
                  </a:xfrm>
                </p:grpSpPr>
                <p:sp>
                  <p:nvSpPr>
                    <p:cNvPr id="257" name="Line 12"/>
                    <p:cNvSpPr/>
                    <p:nvPr/>
                  </p:nvSpPr>
                  <p:spPr>
                    <a:xfrm>
                      <a:off x="6876000" y="3873960"/>
                      <a:ext cx="25524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"/>
                    <p:cNvSpPr txBox="1"/>
                    <p:nvPr/>
                  </p:nvSpPr>
                  <p:spPr>
                    <a:xfrm>
                      <a:off x="6876000" y="3873960"/>
                      <a:ext cx="25524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59" name="Group 14"/>
              <p:cNvGrpSpPr/>
              <p:nvPr/>
            </p:nvGrpSpPr>
            <p:grpSpPr>
              <a:xfrm>
                <a:off x="5652360" y="4114440"/>
                <a:ext cx="3089160" cy="1339560"/>
                <a:chOff x="5652360" y="4114440"/>
                <a:chExt cx="3089160" cy="133956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5652360" y="4114800"/>
                  <a:ext cx="360" cy="1338840"/>
                  <a:chOff x="5652360" y="4114800"/>
                  <a:chExt cx="360" cy="1338840"/>
                </a:xfrm>
              </p:grpSpPr>
              <p:sp>
                <p:nvSpPr>
                  <p:cNvPr id="261" name="Line 15"/>
                  <p:cNvSpPr/>
                  <p:nvPr/>
                </p:nvSpPr>
                <p:spPr>
                  <a:xfrm flipV="1">
                    <a:off x="5652720" y="4114800"/>
                    <a:ext cx="0" cy="1338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 txBox="1"/>
                  <p:nvPr/>
                </p:nvSpPr>
                <p:spPr>
                  <a:xfrm rot="10800000">
                    <a:off x="5652360" y="4114800"/>
                    <a:ext cx="360" cy="133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5652720" y="4114440"/>
                  <a:ext cx="3088800" cy="360"/>
                  <a:chOff x="5652720" y="4114440"/>
                  <a:chExt cx="3088800" cy="360"/>
                </a:xfrm>
              </p:grpSpPr>
              <p:sp>
                <p:nvSpPr>
                  <p:cNvPr id="264" name="Line 16"/>
                  <p:cNvSpPr/>
                  <p:nvPr/>
                </p:nvSpPr>
                <p:spPr>
                  <a:xfrm>
                    <a:off x="5652720" y="4114800"/>
                    <a:ext cx="3088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 txBox="1"/>
                  <p:nvPr/>
                </p:nvSpPr>
                <p:spPr>
                  <a:xfrm rot="10800000">
                    <a:off x="5652720" y="4114440"/>
                    <a:ext cx="3088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"/>
                <p:cNvGrpSpPr/>
                <p:nvPr/>
              </p:nvGrpSpPr>
              <p:grpSpPr>
                <a:xfrm>
                  <a:off x="5652720" y="4115160"/>
                  <a:ext cx="3088800" cy="1338840"/>
                  <a:chOff x="5652720" y="4115160"/>
                  <a:chExt cx="3088800" cy="1338840"/>
                </a:xfrm>
              </p:grpSpPr>
              <p:sp>
                <p:nvSpPr>
                  <p:cNvPr id="267" name="Line 17"/>
                  <p:cNvSpPr/>
                  <p:nvPr/>
                </p:nvSpPr>
                <p:spPr>
                  <a:xfrm flipH="1">
                    <a:off x="5652720" y="4115160"/>
                    <a:ext cx="3088800" cy="1338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 txBox="1"/>
                  <p:nvPr/>
                </p:nvSpPr>
                <p:spPr>
                  <a:xfrm>
                    <a:off x="5652720" y="4115160"/>
                    <a:ext cx="3088800" cy="1338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9" name="Group 18"/>
              <p:cNvGrpSpPr/>
              <p:nvPr/>
            </p:nvGrpSpPr>
            <p:grpSpPr>
              <a:xfrm>
                <a:off x="5673600" y="4136040"/>
                <a:ext cx="255240" cy="221760"/>
                <a:chOff x="5673600" y="4136040"/>
                <a:chExt cx="255240" cy="221760"/>
              </a:xfrm>
            </p:grpSpPr>
            <p:grpSp>
              <p:nvGrpSpPr>
                <p:cNvPr id="270" name=""/>
                <p:cNvGrpSpPr/>
                <p:nvPr/>
              </p:nvGrpSpPr>
              <p:grpSpPr>
                <a:xfrm>
                  <a:off x="5928480" y="4136040"/>
                  <a:ext cx="360" cy="221760"/>
                  <a:chOff x="5928480" y="4136040"/>
                  <a:chExt cx="360" cy="221760"/>
                </a:xfrm>
              </p:grpSpPr>
              <p:sp>
                <p:nvSpPr>
                  <p:cNvPr id="271" name="Line 19"/>
                  <p:cNvSpPr/>
                  <p:nvPr/>
                </p:nvSpPr>
                <p:spPr>
                  <a:xfrm flipV="1">
                    <a:off x="5928840" y="4136040"/>
                    <a:ext cx="0" cy="2217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 txBox="1"/>
                  <p:nvPr/>
                </p:nvSpPr>
                <p:spPr>
                  <a:xfrm rot="10800000">
                    <a:off x="5928480" y="4136040"/>
                    <a:ext cx="360" cy="221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5673600" y="4357440"/>
                  <a:ext cx="255240" cy="360"/>
                  <a:chOff x="5673600" y="4357440"/>
                  <a:chExt cx="255240" cy="360"/>
                </a:xfrm>
              </p:grpSpPr>
              <p:sp>
                <p:nvSpPr>
                  <p:cNvPr id="274" name="Line 20"/>
                  <p:cNvSpPr/>
                  <p:nvPr/>
                </p:nvSpPr>
                <p:spPr>
                  <a:xfrm flipH="1">
                    <a:off x="5673600" y="4357800"/>
                    <a:ext cx="2552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 txBox="1"/>
                  <p:nvPr/>
                </p:nvSpPr>
                <p:spPr>
                  <a:xfrm rot="10800000">
                    <a:off x="5673600" y="4357440"/>
                    <a:ext cx="2552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76" name="Text Box 28"/>
          <p:cNvSpPr/>
          <p:nvPr/>
        </p:nvSpPr>
        <p:spPr>
          <a:xfrm>
            <a:off x="395280" y="620640"/>
            <a:ext cx="84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=CD, B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A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,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,AE=CF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证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F=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7"/>
          <p:cNvSpPr/>
          <p:nvPr/>
        </p:nvSpPr>
        <p:spPr>
          <a:xfrm>
            <a:off x="466560" y="1268280"/>
            <a:ext cx="51642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证明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 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FA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=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E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 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E=CF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E+EF=CF+EF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F=C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F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DE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88"/>
          <p:cNvGrpSpPr/>
          <p:nvPr/>
        </p:nvGrpSpPr>
        <p:grpSpPr>
          <a:xfrm>
            <a:off x="466560" y="4292640"/>
            <a:ext cx="4853160" cy="1015920"/>
            <a:chOff x="466560" y="4292640"/>
            <a:chExt cx="4853160" cy="1015920"/>
          </a:xfrm>
        </p:grpSpPr>
        <p:sp>
          <p:nvSpPr>
            <p:cNvPr id="279" name="Text Box 89"/>
            <p:cNvSpPr/>
            <p:nvPr/>
          </p:nvSpPr>
          <p:spPr>
            <a:xfrm>
              <a:off x="466560" y="4292640"/>
              <a:ext cx="485316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B=CD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F=CE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90"/>
            <p:cNvSpPr/>
            <p:nvPr/>
          </p:nvSpPr>
          <p:spPr>
            <a:xfrm>
              <a:off x="755280" y="4437000"/>
              <a:ext cx="187200" cy="637560"/>
            </a:xfrm>
            <a:custGeom>
              <a:avLst/>
              <a:gdLst>
                <a:gd name="textAreaLeft" fmla="*/ 119520 w 187200"/>
                <a:gd name="textAreaRight" fmla="*/ 187560 w 187200"/>
                <a:gd name="textAreaTop" fmla="*/ 16560 h 637560"/>
                <a:gd name="textAreaBottom" fmla="*/ 621000 h 63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8"/>
                    <a:pt x="10800" y="1795"/>
                  </a:cubicBezTo>
                  <a:lnTo>
                    <a:pt x="10800" y="9005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8"/>
                    <a:pt x="10800" y="12595"/>
                  </a:cubicBezTo>
                  <a:lnTo>
                    <a:pt x="10800" y="19805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Text Box 91"/>
          <p:cNvSpPr/>
          <p:nvPr/>
        </p:nvSpPr>
        <p:spPr>
          <a:xfrm>
            <a:off x="620640" y="5373720"/>
            <a:ext cx="37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∴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BF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D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H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851440" y="3213000"/>
            <a:ext cx="216000" cy="144720"/>
            <a:chOff x="5851440" y="3213000"/>
            <a:chExt cx="216000" cy="144720"/>
          </a:xfrm>
        </p:grpSpPr>
        <p:sp>
          <p:nvSpPr>
            <p:cNvPr id="283" name="Line 94"/>
            <p:cNvSpPr/>
            <p:nvPr/>
          </p:nvSpPr>
          <p:spPr>
            <a:xfrm>
              <a:off x="5851440" y="3213000"/>
              <a:ext cx="216000" cy="1447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5851440" y="3213000"/>
              <a:ext cx="216000" cy="14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291440" y="4653000"/>
            <a:ext cx="216000" cy="144360"/>
            <a:chOff x="7291440" y="4653000"/>
            <a:chExt cx="216000" cy="144360"/>
          </a:xfrm>
        </p:grpSpPr>
        <p:sp>
          <p:nvSpPr>
            <p:cNvPr id="286" name="Line 95"/>
            <p:cNvSpPr/>
            <p:nvPr/>
          </p:nvSpPr>
          <p:spPr>
            <a:xfrm>
              <a:off x="7291440" y="4653000"/>
              <a:ext cx="216000" cy="14436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7291440" y="4653000"/>
              <a:ext cx="21600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4915080" y="4005360"/>
            <a:ext cx="360" cy="215640"/>
            <a:chOff x="4915080" y="4005360"/>
            <a:chExt cx="360" cy="215640"/>
          </a:xfrm>
        </p:grpSpPr>
        <p:sp>
          <p:nvSpPr>
            <p:cNvPr id="289" name="Line 96"/>
            <p:cNvSpPr/>
            <p:nvPr/>
          </p:nvSpPr>
          <p:spPr>
            <a:xfrm>
              <a:off x="4915080" y="4005360"/>
              <a:ext cx="0" cy="21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 txBox="1"/>
            <p:nvPr/>
          </p:nvSpPr>
          <p:spPr>
            <a:xfrm>
              <a:off x="4915080" y="4005360"/>
              <a:ext cx="360" cy="21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866000" y="4005360"/>
            <a:ext cx="1800" cy="215640"/>
            <a:chOff x="7866000" y="4005360"/>
            <a:chExt cx="1800" cy="215640"/>
          </a:xfrm>
        </p:grpSpPr>
        <p:sp>
          <p:nvSpPr>
            <p:cNvPr id="292" name="Line 97"/>
            <p:cNvSpPr/>
            <p:nvPr/>
          </p:nvSpPr>
          <p:spPr>
            <a:xfrm>
              <a:off x="7866000" y="4005360"/>
              <a:ext cx="1800" cy="2156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 txBox="1"/>
            <p:nvPr/>
          </p:nvSpPr>
          <p:spPr>
            <a:xfrm>
              <a:off x="7866000" y="4005360"/>
              <a:ext cx="1800" cy="21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文本框 1"/>
          <p:cNvSpPr/>
          <p:nvPr/>
        </p:nvSpPr>
        <p:spPr>
          <a:xfrm>
            <a:off x="588960" y="5805360"/>
            <a:ext cx="14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F=DE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"/>
          <p:cNvSpPr/>
          <p:nvPr/>
        </p:nvSpPr>
        <p:spPr>
          <a:xfrm>
            <a:off x="108000" y="3182760"/>
            <a:ext cx="12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直角三角形全等的证明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L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3"/>
          <p:cNvSpPr/>
          <p:nvPr/>
        </p:nvSpPr>
        <p:spPr>
          <a:xfrm>
            <a:off x="1692360" y="13827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3421080" y="1090440"/>
            <a:ext cx="38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斜边和一条直角边对应相等的两个直角三角形全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5"/>
          <p:cNvSpPr/>
          <p:nvPr/>
        </p:nvSpPr>
        <p:spPr>
          <a:xfrm>
            <a:off x="1836720" y="299736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提条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6"/>
          <p:cNvSpPr/>
          <p:nvPr/>
        </p:nvSpPr>
        <p:spPr>
          <a:xfrm>
            <a:off x="3646440" y="2997360"/>
            <a:ext cx="251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直角三角形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7"/>
          <p:cNvSpPr/>
          <p:nvPr/>
        </p:nvSpPr>
        <p:spPr>
          <a:xfrm>
            <a:off x="1500120" y="5013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使用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8"/>
          <p:cNvSpPr/>
          <p:nvPr/>
        </p:nvSpPr>
        <p:spPr>
          <a:xfrm>
            <a:off x="3421080" y="4724280"/>
            <a:ext cx="55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只须找除直角外的两个条件即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（两个条件中至少有一个条件是一对对应边相等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左大括号 9"/>
          <p:cNvSpPr/>
          <p:nvPr/>
        </p:nvSpPr>
        <p:spPr>
          <a:xfrm>
            <a:off x="1476360" y="1628640"/>
            <a:ext cx="144360" cy="3673440"/>
          </a:xfrm>
          <a:custGeom>
            <a:avLst/>
            <a:gdLst>
              <a:gd name="textAreaLeft" fmla="*/ 92160 w 144360"/>
              <a:gd name="textAreaRight" fmla="*/ 144360 w 144360"/>
              <a:gd name="textAreaTop" fmla="*/ 3240 h 3673440"/>
              <a:gd name="textAreaBottom" fmla="*/ 3670200 h 367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"/>
                  <a:pt x="10800" y="66"/>
                </a:cubicBezTo>
                <a:lnTo>
                  <a:pt x="10800" y="10734"/>
                </a:lnTo>
                <a:cubicBezTo>
                  <a:pt x="10800" y="10767"/>
                  <a:pt x="5400" y="10800"/>
                  <a:pt x="0" y="10800"/>
                </a:cubicBezTo>
                <a:cubicBezTo>
                  <a:pt x="5400" y="10800"/>
                  <a:pt x="10800" y="10833"/>
                  <a:pt x="10800" y="10866"/>
                </a:cubicBezTo>
                <a:lnTo>
                  <a:pt x="10800" y="21534"/>
                </a:lnTo>
                <a:cubicBezTo>
                  <a:pt x="10800" y="21567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右箭头 10"/>
          <p:cNvSpPr/>
          <p:nvPr/>
        </p:nvSpPr>
        <p:spPr>
          <a:xfrm>
            <a:off x="2916360" y="1484280"/>
            <a:ext cx="433440" cy="360360"/>
          </a:xfrm>
          <a:prstGeom prst="rightArrow">
            <a:avLst>
              <a:gd name="adj1" fmla="val 50000"/>
              <a:gd name="adj2" fmla="val 5000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右箭头 11"/>
          <p:cNvSpPr/>
          <p:nvPr/>
        </p:nvSpPr>
        <p:spPr>
          <a:xfrm>
            <a:off x="2916360" y="3213000"/>
            <a:ext cx="433440" cy="360360"/>
          </a:xfrm>
          <a:prstGeom prst="rightArrow">
            <a:avLst>
              <a:gd name="adj1" fmla="val 50000"/>
              <a:gd name="adj2" fmla="val 5000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右箭头 12"/>
          <p:cNvSpPr/>
          <p:nvPr/>
        </p:nvSpPr>
        <p:spPr>
          <a:xfrm>
            <a:off x="3000240" y="5084640"/>
            <a:ext cx="433440" cy="360360"/>
          </a:xfrm>
          <a:prstGeom prst="rightArrow">
            <a:avLst>
              <a:gd name="adj1" fmla="val 50000"/>
              <a:gd name="adj2" fmla="val 5000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16"/>
          <p:cNvSpPr/>
          <p:nvPr/>
        </p:nvSpPr>
        <p:spPr>
          <a:xfrm>
            <a:off x="1000080" y="242892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49494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8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9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矩形 11"/>
          <p:cNvSpPr/>
          <p:nvPr/>
        </p:nvSpPr>
        <p:spPr>
          <a:xfrm>
            <a:off x="539640" y="2133720"/>
            <a:ext cx="792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掌握直角三角形全等的特殊方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L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并能熟练地选择判定方法判定两个直角三角形全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掌握角平分线性质定理的逆定理，能够综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L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决问题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 31"/>
          <p:cNvSpPr/>
          <p:nvPr/>
        </p:nvSpPr>
        <p:spPr>
          <a:xfrm>
            <a:off x="428760" y="979560"/>
            <a:ext cx="142848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79280" y="30672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判别两个三角形全等的方法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:   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55640" y="37368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3348000" y="37288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788000" y="37148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050920" y="373680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34960" y="1986120"/>
            <a:ext cx="619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等三角形的性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39640" y="2562120"/>
            <a:ext cx="57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对应角相等，对应边相等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6147"/>
          <p:cNvGrpSpPr/>
          <p:nvPr/>
        </p:nvGrpSpPr>
        <p:grpSpPr>
          <a:xfrm>
            <a:off x="325440" y="246240"/>
            <a:ext cx="4136400" cy="806400"/>
            <a:chOff x="325440" y="246240"/>
            <a:chExt cx="4136400" cy="806400"/>
          </a:xfrm>
        </p:grpSpPr>
        <p:sp>
          <p:nvSpPr>
            <p:cNvPr id="94" name="矩形 7"/>
            <p:cNvSpPr/>
            <p:nvPr/>
          </p:nvSpPr>
          <p:spPr>
            <a:xfrm>
              <a:off x="885240" y="246240"/>
              <a:ext cx="1672920" cy="76320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任意多边形 16"/>
            <p:cNvSpPr/>
            <p:nvPr/>
          </p:nvSpPr>
          <p:spPr>
            <a:xfrm>
              <a:off x="325440" y="534960"/>
              <a:ext cx="524160" cy="4831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17"/>
            <p:cNvSpPr/>
            <p:nvPr/>
          </p:nvSpPr>
          <p:spPr>
            <a:xfrm>
              <a:off x="687240" y="483840"/>
              <a:ext cx="163440" cy="16848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480" bIns="-47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文本框 6151"/>
            <p:cNvSpPr/>
            <p:nvPr/>
          </p:nvSpPr>
          <p:spPr>
            <a:xfrm>
              <a:off x="1574640" y="520200"/>
              <a:ext cx="288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用</a:t>
              </a:r>
              <a:r>
                <a:rPr b="1" lang="en-US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“</a:t>
              </a:r>
              <a:r>
                <a:rPr b="1" lang="en-US" sz="2800" spc="-1" strike="noStrike">
                  <a:solidFill>
                    <a:srgbClr val="006666"/>
                  </a:solidFill>
                  <a:latin typeface="Times New Roman"/>
                  <a:ea typeface="微软雅黑"/>
                </a:rPr>
                <a:t>HL</a:t>
              </a:r>
              <a:r>
                <a:rPr b="1" lang="en-US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”</a:t>
              </a: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判定三角形全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6152"/>
            <p:cNvSpPr/>
            <p:nvPr/>
          </p:nvSpPr>
          <p:spPr>
            <a:xfrm>
              <a:off x="325440" y="534240"/>
              <a:ext cx="553680" cy="51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3"/>
          <p:cNvSpPr/>
          <p:nvPr/>
        </p:nvSpPr>
        <p:spPr>
          <a:xfrm>
            <a:off x="417600" y="3098880"/>
            <a:ext cx="8307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已经知道，三边对应相等的两个三角形全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由勾股定理可知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两边对应相等的两个直角三角形，其第三条也一定相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452520" y="1360440"/>
            <a:ext cx="83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一个三角形中，由勾股定理可知：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如果两条边确定，那么第三条也随之确定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由此可以得出直角三角形的新的判定方法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2"/>
          <p:cNvSpPr/>
          <p:nvPr/>
        </p:nvSpPr>
        <p:spPr>
          <a:xfrm>
            <a:off x="2006280" y="4932360"/>
            <a:ext cx="45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此，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斜边和第三边对应相等的两个直角三角形全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250920" y="549360"/>
            <a:ext cx="27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证明过程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50920" y="1189080"/>
            <a:ext cx="856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，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'B'C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9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'B'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'C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50920" y="2300400"/>
            <a:ext cx="85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'B'C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3"/>
          <p:cNvGrpSpPr/>
          <p:nvPr/>
        </p:nvGrpSpPr>
        <p:grpSpPr>
          <a:xfrm>
            <a:off x="5271480" y="1758960"/>
            <a:ext cx="3773160" cy="3263400"/>
            <a:chOff x="5271480" y="1758960"/>
            <a:chExt cx="3773160" cy="3263400"/>
          </a:xfrm>
        </p:grpSpPr>
        <p:sp>
          <p:nvSpPr>
            <p:cNvPr id="106" name="直角三角形 3"/>
            <p:cNvSpPr/>
            <p:nvPr/>
          </p:nvSpPr>
          <p:spPr>
            <a:xfrm>
              <a:off x="7310880" y="2365920"/>
              <a:ext cx="1407600" cy="2157120"/>
            </a:xfrm>
            <a:prstGeom prst="rtTriangl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角三角形 4"/>
            <p:cNvSpPr/>
            <p:nvPr/>
          </p:nvSpPr>
          <p:spPr>
            <a:xfrm flipH="1">
              <a:off x="5512680" y="2365920"/>
              <a:ext cx="1424520" cy="2157120"/>
            </a:xfrm>
            <a:prstGeom prst="rtTriangl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5"/>
            <p:cNvSpPr/>
            <p:nvPr/>
          </p:nvSpPr>
          <p:spPr>
            <a:xfrm>
              <a:off x="6703200" y="4300200"/>
              <a:ext cx="215640" cy="2160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6"/>
            <p:cNvSpPr/>
            <p:nvPr/>
          </p:nvSpPr>
          <p:spPr>
            <a:xfrm>
              <a:off x="7310880" y="4307400"/>
              <a:ext cx="215640" cy="2156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7"/>
            <p:cNvSpPr/>
            <p:nvPr/>
          </p:nvSpPr>
          <p:spPr>
            <a:xfrm>
              <a:off x="7184880" y="45493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'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文本框 8"/>
            <p:cNvSpPr/>
            <p:nvPr/>
          </p:nvSpPr>
          <p:spPr>
            <a:xfrm>
              <a:off x="8575920" y="4379760"/>
              <a:ext cx="4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'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9"/>
            <p:cNvSpPr/>
            <p:nvPr/>
          </p:nvSpPr>
          <p:spPr>
            <a:xfrm>
              <a:off x="7184160" y="1758960"/>
              <a:ext cx="4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'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10"/>
            <p:cNvSpPr/>
            <p:nvPr/>
          </p:nvSpPr>
          <p:spPr>
            <a:xfrm>
              <a:off x="6755040" y="436644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文本框 11"/>
            <p:cNvSpPr/>
            <p:nvPr/>
          </p:nvSpPr>
          <p:spPr>
            <a:xfrm>
              <a:off x="5271480" y="4516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12"/>
            <p:cNvSpPr/>
            <p:nvPr/>
          </p:nvSpPr>
          <p:spPr>
            <a:xfrm>
              <a:off x="6619320" y="175896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3"/>
          <p:cNvSpPr/>
          <p:nvPr/>
        </p:nvSpPr>
        <p:spPr>
          <a:xfrm>
            <a:off x="250920" y="2862360"/>
            <a:ext cx="540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证明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'B'C'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'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90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'C'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'B'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'C'</a:t>
            </a:r>
            <a:r>
              <a:rPr b="0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'B'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'C'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'C'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'B'C'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SS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圆角矩形 31"/>
          <p:cNvSpPr/>
          <p:nvPr/>
        </p:nvSpPr>
        <p:spPr>
          <a:xfrm>
            <a:off x="428760" y="857160"/>
            <a:ext cx="1428480" cy="4287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要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1314360" y="151776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8b8b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直角三角形全等的判定定理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"/>
          <p:cNvSpPr/>
          <p:nvPr/>
        </p:nvSpPr>
        <p:spPr>
          <a:xfrm>
            <a:off x="1758240" y="2228760"/>
            <a:ext cx="399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斜边和直角边对应相等的两个直角三角形全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组合 13"/>
          <p:cNvGrpSpPr/>
          <p:nvPr/>
        </p:nvGrpSpPr>
        <p:grpSpPr>
          <a:xfrm>
            <a:off x="4793760" y="2728800"/>
            <a:ext cx="4160160" cy="3263400"/>
            <a:chOff x="4793760" y="2728800"/>
            <a:chExt cx="4160160" cy="3263400"/>
          </a:xfrm>
        </p:grpSpPr>
        <p:sp>
          <p:nvSpPr>
            <p:cNvPr id="121" name="直角三角形 3"/>
            <p:cNvSpPr/>
            <p:nvPr/>
          </p:nvSpPr>
          <p:spPr>
            <a:xfrm>
              <a:off x="7220880" y="3335760"/>
              <a:ext cx="1407240" cy="2157120"/>
            </a:xfrm>
            <a:prstGeom prst="rtTriangl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角三角形 4"/>
            <p:cNvSpPr/>
            <p:nvPr/>
          </p:nvSpPr>
          <p:spPr>
            <a:xfrm flipH="1">
              <a:off x="5069160" y="3335760"/>
              <a:ext cx="1424160" cy="2157120"/>
            </a:xfrm>
            <a:prstGeom prst="rtTriangle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5"/>
            <p:cNvSpPr/>
            <p:nvPr/>
          </p:nvSpPr>
          <p:spPr>
            <a:xfrm>
              <a:off x="6278040" y="5277240"/>
              <a:ext cx="215640" cy="2156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6"/>
            <p:cNvSpPr/>
            <p:nvPr/>
          </p:nvSpPr>
          <p:spPr>
            <a:xfrm>
              <a:off x="7220880" y="5277240"/>
              <a:ext cx="215640" cy="21564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文本框 7"/>
            <p:cNvSpPr/>
            <p:nvPr/>
          </p:nvSpPr>
          <p:spPr>
            <a:xfrm>
              <a:off x="7094520" y="55191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'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文本框 8"/>
            <p:cNvSpPr/>
            <p:nvPr/>
          </p:nvSpPr>
          <p:spPr>
            <a:xfrm>
              <a:off x="8485200" y="5349600"/>
              <a:ext cx="4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'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文本框 9"/>
            <p:cNvSpPr/>
            <p:nvPr/>
          </p:nvSpPr>
          <p:spPr>
            <a:xfrm>
              <a:off x="7093800" y="2728800"/>
              <a:ext cx="4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'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文本框 10"/>
            <p:cNvSpPr/>
            <p:nvPr/>
          </p:nvSpPr>
          <p:spPr>
            <a:xfrm>
              <a:off x="6180840" y="533628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文本框 11"/>
            <p:cNvSpPr/>
            <p:nvPr/>
          </p:nvSpPr>
          <p:spPr>
            <a:xfrm>
              <a:off x="4793760" y="5460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12"/>
            <p:cNvSpPr/>
            <p:nvPr/>
          </p:nvSpPr>
          <p:spPr>
            <a:xfrm>
              <a:off x="6279120" y="2728800"/>
              <a:ext cx="383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17"/>
          <p:cNvGrpSpPr/>
          <p:nvPr/>
        </p:nvGrpSpPr>
        <p:grpSpPr>
          <a:xfrm>
            <a:off x="324000" y="549360"/>
            <a:ext cx="1143000" cy="428400"/>
            <a:chOff x="324000" y="549360"/>
            <a:chExt cx="1143000" cy="428400"/>
          </a:xfrm>
        </p:grpSpPr>
        <p:sp>
          <p:nvSpPr>
            <p:cNvPr id="132" name="圆角矩形 31"/>
            <p:cNvSpPr/>
            <p:nvPr/>
          </p:nvSpPr>
          <p:spPr>
            <a:xfrm>
              <a:off x="324000" y="549360"/>
              <a:ext cx="1143000" cy="428400"/>
            </a:xfrm>
            <a:prstGeom prst="roundRect">
              <a:avLst>
                <a:gd name="adj" fmla="val 16667"/>
              </a:avLst>
            </a:prstGeom>
            <a:solidFill>
              <a:srgbClr val="ffffd9"/>
            </a:solidFill>
            <a:ln w="255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文本框 19"/>
            <p:cNvSpPr/>
            <p:nvPr/>
          </p:nvSpPr>
          <p:spPr>
            <a:xfrm>
              <a:off x="344160" y="594000"/>
              <a:ext cx="112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典例精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Text Box 6"/>
          <p:cNvSpPr/>
          <p:nvPr/>
        </p:nvSpPr>
        <p:spPr>
          <a:xfrm>
            <a:off x="179280" y="895320"/>
            <a:ext cx="88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例</a:t>
            </a:r>
            <a:r>
              <a:rPr b="1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1</a:t>
            </a:r>
            <a:r>
              <a:rPr b="0" lang="zh-CN" sz="2400" spc="-1" strike="noStrike">
                <a:solidFill>
                  <a:srgbClr val="228b8b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求证：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﹦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539640" y="2421000"/>
            <a:ext cx="47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证明：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与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都是直角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3"/>
          <p:cNvGrpSpPr/>
          <p:nvPr/>
        </p:nvGrpSpPr>
        <p:grpSpPr>
          <a:xfrm>
            <a:off x="1521000" y="4076640"/>
            <a:ext cx="5787720" cy="984240"/>
            <a:chOff x="1521000" y="4076640"/>
            <a:chExt cx="5787720" cy="984240"/>
          </a:xfrm>
        </p:grpSpPr>
        <p:sp>
          <p:nvSpPr>
            <p:cNvPr id="137" name="Text Box 23"/>
            <p:cNvSpPr/>
            <p:nvPr/>
          </p:nvSpPr>
          <p:spPr>
            <a:xfrm>
              <a:off x="1521000" y="4076640"/>
              <a:ext cx="578772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B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=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BA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   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AC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=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BD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4"/>
            <p:cNvSpPr/>
            <p:nvPr/>
          </p:nvSpPr>
          <p:spPr>
            <a:xfrm>
              <a:off x="1728720" y="4238640"/>
              <a:ext cx="223560" cy="637920"/>
            </a:xfrm>
            <a:custGeom>
              <a:avLst/>
              <a:gdLst>
                <a:gd name="textAreaLeft" fmla="*/ 142920 w 223560"/>
                <a:gd name="textAreaRight" fmla="*/ 223920 w 223560"/>
                <a:gd name="textAreaTop" fmla="*/ 16560 h 637920"/>
                <a:gd name="textAreaBottom" fmla="*/ 621360 h 63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8"/>
                    <a:pt x="10800" y="1795"/>
                  </a:cubicBezTo>
                  <a:lnTo>
                    <a:pt x="10800" y="9005"/>
                  </a:lnTo>
                  <a:cubicBezTo>
                    <a:pt x="10800" y="9903"/>
                    <a:pt x="5400" y="10800"/>
                    <a:pt x="0" y="10800"/>
                  </a:cubicBezTo>
                  <a:cubicBezTo>
                    <a:pt x="5400" y="10800"/>
                    <a:pt x="10800" y="11698"/>
                    <a:pt x="10800" y="12595"/>
                  </a:cubicBezTo>
                  <a:lnTo>
                    <a:pt x="10800" y="19805"/>
                  </a:lnTo>
                  <a:cubicBezTo>
                    <a:pt x="10800" y="20703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Text Box 32"/>
          <p:cNvSpPr/>
          <p:nvPr/>
        </p:nvSpPr>
        <p:spPr>
          <a:xfrm>
            <a:off x="1619280" y="3500280"/>
            <a:ext cx="48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在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D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0"/>
          <p:cNvSpPr/>
          <p:nvPr/>
        </p:nvSpPr>
        <p:spPr>
          <a:xfrm>
            <a:off x="611280" y="5157720"/>
            <a:ext cx="543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AD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(H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﹦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全等三角形的对应边相等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30"/>
          <p:cNvGrpSpPr/>
          <p:nvPr/>
        </p:nvGrpSpPr>
        <p:grpSpPr>
          <a:xfrm>
            <a:off x="5594040" y="2413080"/>
            <a:ext cx="3538440" cy="2738160"/>
            <a:chOff x="5594040" y="2413080"/>
            <a:chExt cx="3538440" cy="2738160"/>
          </a:xfrm>
        </p:grpSpPr>
        <p:sp>
          <p:nvSpPr>
            <p:cNvPr id="142" name="AutoShape 8"/>
            <p:cNvSpPr/>
            <p:nvPr/>
          </p:nvSpPr>
          <p:spPr>
            <a:xfrm flipH="1" rot="12651600">
              <a:off x="6183720" y="3285720"/>
              <a:ext cx="2319480" cy="1367280"/>
            </a:xfrm>
            <a:prstGeom prst="rtTriangle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7"/>
            <p:cNvSpPr/>
            <p:nvPr/>
          </p:nvSpPr>
          <p:spPr>
            <a:xfrm rot="9009000">
              <a:off x="6184080" y="3283920"/>
              <a:ext cx="2319480" cy="1367280"/>
            </a:xfrm>
            <a:prstGeom prst="rtTriangle">
              <a:avLst/>
            </a:prstGeom>
            <a:noFill/>
            <a:ln w="255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0"/>
            <p:cNvSpPr/>
            <p:nvPr/>
          </p:nvSpPr>
          <p:spPr>
            <a:xfrm>
              <a:off x="5594040" y="37980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0"/>
            <p:cNvSpPr/>
            <p:nvPr/>
          </p:nvSpPr>
          <p:spPr>
            <a:xfrm>
              <a:off x="8749080" y="3766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0"/>
            <p:cNvSpPr/>
            <p:nvPr/>
          </p:nvSpPr>
          <p:spPr>
            <a:xfrm>
              <a:off x="6501600" y="2413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0"/>
            <p:cNvSpPr/>
            <p:nvPr/>
          </p:nvSpPr>
          <p:spPr>
            <a:xfrm>
              <a:off x="7860960" y="24224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33"/>
          <p:cNvGrpSpPr/>
          <p:nvPr/>
        </p:nvGrpSpPr>
        <p:grpSpPr>
          <a:xfrm>
            <a:off x="1547640" y="1413000"/>
            <a:ext cx="7437600" cy="2089080"/>
            <a:chOff x="1547640" y="1413000"/>
            <a:chExt cx="7437600" cy="2089080"/>
          </a:xfrm>
        </p:grpSpPr>
        <p:sp>
          <p:nvSpPr>
            <p:cNvPr id="149" name="AutoShape 33"/>
            <p:cNvSpPr/>
            <p:nvPr/>
          </p:nvSpPr>
          <p:spPr>
            <a:xfrm>
              <a:off x="5798880" y="1413000"/>
              <a:ext cx="3186360" cy="876240"/>
            </a:xfrm>
            <a:prstGeom prst="wedgeRectCallout">
              <a:avLst>
                <a:gd name="adj1" fmla="val -95930"/>
                <a:gd name="adj2" fmla="val 8226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应用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HL”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前提条件是在直角三角形中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32"/>
            <p:cNvSpPr/>
            <p:nvPr/>
          </p:nvSpPr>
          <p:spPr>
            <a:xfrm>
              <a:off x="1547640" y="2278080"/>
              <a:ext cx="3874320" cy="1224000"/>
            </a:xfrm>
            <a:prstGeom prst="rect">
              <a:avLst/>
            </a:prstGeom>
            <a:noFill/>
            <a:ln w="25560">
              <a:solidFill>
                <a:srgbClr val="175c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25"/>
          <p:cNvGrpSpPr/>
          <p:nvPr/>
        </p:nvGrpSpPr>
        <p:grpSpPr>
          <a:xfrm>
            <a:off x="1619280" y="4005360"/>
            <a:ext cx="5545080" cy="1224000"/>
            <a:chOff x="1619280" y="4005360"/>
            <a:chExt cx="5545080" cy="1224000"/>
          </a:xfrm>
        </p:grpSpPr>
        <p:sp>
          <p:nvSpPr>
            <p:cNvPr id="152" name="矩形 37"/>
            <p:cNvSpPr/>
            <p:nvPr/>
          </p:nvSpPr>
          <p:spPr>
            <a:xfrm>
              <a:off x="1619280" y="4005360"/>
              <a:ext cx="1728720" cy="1224000"/>
            </a:xfrm>
            <a:prstGeom prst="rect">
              <a:avLst/>
            </a:prstGeom>
            <a:noFill/>
            <a:ln w="25560">
              <a:solidFill>
                <a:srgbClr val="175c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34"/>
            <p:cNvSpPr/>
            <p:nvPr/>
          </p:nvSpPr>
          <p:spPr>
            <a:xfrm>
              <a:off x="4284720" y="4221000"/>
              <a:ext cx="2879640" cy="936720"/>
            </a:xfrm>
            <a:prstGeom prst="wedgeRectCallout">
              <a:avLst>
                <a:gd name="adj1" fmla="val -86333"/>
                <a:gd name="adj2" fmla="val 12324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这是应用“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L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”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判定方法的书写格式</a:t>
              </a:r>
              <a:r>
                <a:rPr b="0" lang="en-US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26"/>
          <p:cNvGrpSpPr/>
          <p:nvPr/>
        </p:nvGrpSpPr>
        <p:grpSpPr>
          <a:xfrm>
            <a:off x="682560" y="5157720"/>
            <a:ext cx="8280360" cy="1224000"/>
            <a:chOff x="682560" y="5157720"/>
            <a:chExt cx="8280360" cy="1224000"/>
          </a:xfrm>
        </p:grpSpPr>
        <p:sp>
          <p:nvSpPr>
            <p:cNvPr id="155" name="矩形 40"/>
            <p:cNvSpPr/>
            <p:nvPr/>
          </p:nvSpPr>
          <p:spPr>
            <a:xfrm>
              <a:off x="682560" y="5301000"/>
              <a:ext cx="5502240" cy="1008000"/>
            </a:xfrm>
            <a:prstGeom prst="rect">
              <a:avLst/>
            </a:prstGeom>
            <a:noFill/>
            <a:ln w="25560">
              <a:solidFill>
                <a:srgbClr val="175c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35"/>
            <p:cNvSpPr/>
            <p:nvPr/>
          </p:nvSpPr>
          <p:spPr>
            <a:xfrm>
              <a:off x="6514920" y="5157720"/>
              <a:ext cx="2448000" cy="1224000"/>
            </a:xfrm>
            <a:prstGeom prst="wedgeRectCallout">
              <a:avLst>
                <a:gd name="adj1" fmla="val -61541"/>
                <a:gd name="adj2" fmla="val 17629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利用全等证明两条线段相等，这是常见的思路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31"/>
          <p:cNvSpPr/>
          <p:nvPr/>
        </p:nvSpPr>
        <p:spPr>
          <a:xfrm>
            <a:off x="272880" y="603360"/>
            <a:ext cx="1428840" cy="428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378000" y="1031760"/>
            <a:ext cx="8103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2 </a:t>
            </a: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，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内部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垂足分别为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点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O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分线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7"/>
          <p:cNvSpPr/>
          <p:nvPr/>
        </p:nvSpPr>
        <p:spPr>
          <a:xfrm flipV="1">
            <a:off x="6048360" y="2916360"/>
            <a:ext cx="2879640" cy="1224000"/>
          </a:xfrm>
          <a:prstGeom prst="line">
            <a:avLst/>
          </a:prstGeom>
          <a:ln w="316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16"/>
          <p:cNvGrpSpPr/>
          <p:nvPr/>
        </p:nvGrpSpPr>
        <p:grpSpPr>
          <a:xfrm>
            <a:off x="5609880" y="1720800"/>
            <a:ext cx="3352680" cy="2899800"/>
            <a:chOff x="5609880" y="1720800"/>
            <a:chExt cx="3352680" cy="2899800"/>
          </a:xfrm>
        </p:grpSpPr>
        <p:sp>
          <p:nvSpPr>
            <p:cNvPr id="162" name="直接连接符 1"/>
            <p:cNvSpPr/>
            <p:nvPr/>
          </p:nvSpPr>
          <p:spPr>
            <a:xfrm>
              <a:off x="6011640" y="4149000"/>
              <a:ext cx="29509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3"/>
            <p:cNvSpPr/>
            <p:nvPr/>
          </p:nvSpPr>
          <p:spPr>
            <a:xfrm flipV="1">
              <a:off x="6011640" y="2060640"/>
              <a:ext cx="2087640" cy="2087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直接连接符 4"/>
            <p:cNvSpPr/>
            <p:nvPr/>
          </p:nvSpPr>
          <p:spPr>
            <a:xfrm flipH="1" flipV="1">
              <a:off x="8171280" y="3212640"/>
              <a:ext cx="9360" cy="935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直接连接符 5"/>
            <p:cNvSpPr/>
            <p:nvPr/>
          </p:nvSpPr>
          <p:spPr>
            <a:xfrm flipH="1" flipV="1">
              <a:off x="7577280" y="2548800"/>
              <a:ext cx="594000" cy="6894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8"/>
            <p:cNvSpPr/>
            <p:nvPr/>
          </p:nvSpPr>
          <p:spPr>
            <a:xfrm>
              <a:off x="7714800" y="1720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文本框 9"/>
            <p:cNvSpPr/>
            <p:nvPr/>
          </p:nvSpPr>
          <p:spPr>
            <a:xfrm>
              <a:off x="8482320" y="4160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10"/>
            <p:cNvSpPr/>
            <p:nvPr/>
          </p:nvSpPr>
          <p:spPr>
            <a:xfrm>
              <a:off x="7896960" y="414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文本框 11"/>
            <p:cNvSpPr/>
            <p:nvPr/>
          </p:nvSpPr>
          <p:spPr>
            <a:xfrm>
              <a:off x="7192440" y="2177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12"/>
            <p:cNvSpPr/>
            <p:nvPr/>
          </p:nvSpPr>
          <p:spPr>
            <a:xfrm>
              <a:off x="8156520" y="30920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文本框 13"/>
            <p:cNvSpPr/>
            <p:nvPr/>
          </p:nvSpPr>
          <p:spPr>
            <a:xfrm>
              <a:off x="5609880" y="39459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矩形 14"/>
            <p:cNvSpPr/>
            <p:nvPr/>
          </p:nvSpPr>
          <p:spPr>
            <a:xfrm>
              <a:off x="7963920" y="3932280"/>
              <a:ext cx="215640" cy="2163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矩形 15"/>
            <p:cNvSpPr/>
            <p:nvPr/>
          </p:nvSpPr>
          <p:spPr>
            <a:xfrm rot="19140000">
              <a:off x="7492680" y="2623680"/>
              <a:ext cx="215640" cy="25200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3"/>
          <p:cNvSpPr/>
          <p:nvPr/>
        </p:nvSpPr>
        <p:spPr>
          <a:xfrm>
            <a:off x="272880" y="2584440"/>
            <a:ext cx="5407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28b8b"/>
                </a:solidFill>
                <a:latin typeface="Times New Roman"/>
                <a:ea typeface="黑体"/>
              </a:rPr>
              <a:t>证明：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如图作射线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A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CO=∠PDO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9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C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9"/>
          <p:cNvSpPr/>
          <p:nvPr/>
        </p:nvSpPr>
        <p:spPr>
          <a:xfrm>
            <a:off x="443520" y="460692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左大括号 20"/>
          <p:cNvSpPr/>
          <p:nvPr/>
        </p:nvSpPr>
        <p:spPr>
          <a:xfrm>
            <a:off x="949320" y="4321080"/>
            <a:ext cx="76320" cy="1079640"/>
          </a:xfrm>
          <a:custGeom>
            <a:avLst/>
            <a:gdLst>
              <a:gd name="textAreaLeft" fmla="*/ 48960 w 76320"/>
              <a:gd name="textAreaRight" fmla="*/ 76320 w 76320"/>
              <a:gd name="textAreaTop" fmla="*/ 1800 h 1079640"/>
              <a:gd name="textAreaBottom" fmla="*/ 10778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"/>
                  <a:pt x="10800" y="124"/>
                </a:cubicBezTo>
                <a:lnTo>
                  <a:pt x="10800" y="10676"/>
                </a:lnTo>
                <a:cubicBezTo>
                  <a:pt x="10800" y="10738"/>
                  <a:pt x="5400" y="10800"/>
                  <a:pt x="0" y="10800"/>
                </a:cubicBezTo>
                <a:cubicBezTo>
                  <a:pt x="5400" y="10800"/>
                  <a:pt x="10800" y="10862"/>
                  <a:pt x="10800" y="10924"/>
                </a:cubicBezTo>
                <a:lnTo>
                  <a:pt x="10800" y="21476"/>
                </a:lnTo>
                <a:cubicBezTo>
                  <a:pt x="10800" y="21538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21"/>
          <p:cNvSpPr/>
          <p:nvPr/>
        </p:nvSpPr>
        <p:spPr>
          <a:xfrm>
            <a:off x="1025640" y="4943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OP</a:t>
            </a:r>
            <a:r>
              <a:rPr b="0" lang="zh-CN" sz="1800" spc="-1" strike="noStrike">
                <a:solidFill>
                  <a:srgbClr val="ff0000"/>
                </a:solidFill>
                <a:latin typeface="Times New Roman"/>
                <a:ea typeface="黑体"/>
              </a:rPr>
              <a:t>（公共边）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22"/>
          <p:cNvSpPr/>
          <p:nvPr/>
        </p:nvSpPr>
        <p:spPr>
          <a:xfrm>
            <a:off x="1226520" y="43210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C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D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23"/>
          <p:cNvSpPr/>
          <p:nvPr/>
        </p:nvSpPr>
        <p:spPr>
          <a:xfrm>
            <a:off x="467640" y="5295960"/>
            <a:ext cx="391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Rt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'B'C'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H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24"/>
          <p:cNvSpPr/>
          <p:nvPr/>
        </p:nvSpPr>
        <p:spPr>
          <a:xfrm>
            <a:off x="753480" y="5935680"/>
            <a:ext cx="553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OA=∠POB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点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在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OB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的平分线上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807120" y="549360"/>
            <a:ext cx="65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如图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90°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要证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△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C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全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还需要补充的条件是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写出一个即可）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3419640" y="1844640"/>
            <a:ext cx="543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答案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B=AD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或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C=DC 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或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AC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AC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或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C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=∠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C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9"/>
          <p:cNvGrpSpPr/>
          <p:nvPr/>
        </p:nvGrpSpPr>
        <p:grpSpPr>
          <a:xfrm>
            <a:off x="703080" y="5013360"/>
            <a:ext cx="7920360" cy="1079640"/>
            <a:chOff x="703080" y="5013360"/>
            <a:chExt cx="7920360" cy="1079640"/>
          </a:xfrm>
        </p:grpSpPr>
        <p:sp>
          <p:nvSpPr>
            <p:cNvPr id="185" name="矩形 10"/>
            <p:cNvSpPr/>
            <p:nvPr/>
          </p:nvSpPr>
          <p:spPr>
            <a:xfrm>
              <a:off x="703080" y="5013360"/>
              <a:ext cx="7920360" cy="10796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cc0066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定要注意直角三角形不是只能用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HL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证明全等，但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HL</a:t>
              </a:r>
              <a:r>
                <a:rPr b="0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只能用于证明直角三角形的全等</a:t>
              </a:r>
              <a:r>
                <a:rPr b="0" lang="en-US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组合 38"/>
            <p:cNvGrpSpPr/>
            <p:nvPr/>
          </p:nvGrpSpPr>
          <p:grpSpPr>
            <a:xfrm>
              <a:off x="716040" y="5041080"/>
              <a:ext cx="649080" cy="650520"/>
              <a:chOff x="716040" y="5041080"/>
              <a:chExt cx="649080" cy="650520"/>
            </a:xfrm>
          </p:grpSpPr>
          <p:grpSp>
            <p:nvGrpSpPr>
              <p:cNvPr id="187" name="组合 35"/>
              <p:cNvGrpSpPr/>
              <p:nvPr/>
            </p:nvGrpSpPr>
            <p:grpSpPr>
              <a:xfrm>
                <a:off x="716040" y="5041080"/>
                <a:ext cx="649080" cy="650520"/>
                <a:chOff x="716040" y="5041080"/>
                <a:chExt cx="649080" cy="650520"/>
              </a:xfrm>
            </p:grpSpPr>
            <p:sp>
              <p:nvSpPr>
                <p:cNvPr id="188" name="椭圆 33"/>
                <p:cNvSpPr/>
                <p:nvPr/>
              </p:nvSpPr>
              <p:spPr>
                <a:xfrm>
                  <a:off x="716040" y="5042160"/>
                  <a:ext cx="649080" cy="649440"/>
                </a:xfrm>
                <a:prstGeom prst="ellipse">
                  <a:avLst/>
                </a:prstGeom>
                <a:solidFill>
                  <a:srgbClr val="eb2a0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椭圆 34"/>
                <p:cNvSpPr/>
                <p:nvPr/>
              </p:nvSpPr>
              <p:spPr>
                <a:xfrm>
                  <a:off x="788040" y="5041080"/>
                  <a:ext cx="505080" cy="505080"/>
                </a:xfrm>
                <a:prstGeom prst="ellipse">
                  <a:avLst/>
                </a:prstGeom>
                <a:solidFill>
                  <a:srgbClr val="ffcc00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Box 37"/>
              <p:cNvSpPr/>
              <p:nvPr/>
            </p:nvSpPr>
            <p:spPr>
              <a:xfrm>
                <a:off x="790560" y="51130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2060"/>
                    </a:solidFill>
                    <a:latin typeface="微软雅黑"/>
                    <a:ea typeface="微软雅黑"/>
                  </a:rPr>
                  <a:t>注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TextBox 17"/>
          <p:cNvSpPr/>
          <p:nvPr/>
        </p:nvSpPr>
        <p:spPr>
          <a:xfrm>
            <a:off x="1631520" y="4538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35"/>
          <p:cNvGrpSpPr/>
          <p:nvPr/>
        </p:nvGrpSpPr>
        <p:grpSpPr>
          <a:xfrm>
            <a:off x="407880" y="1844640"/>
            <a:ext cx="2792160" cy="2754360"/>
            <a:chOff x="407880" y="1844640"/>
            <a:chExt cx="2792160" cy="2754360"/>
          </a:xfrm>
        </p:grpSpPr>
        <p:grpSp>
          <p:nvGrpSpPr>
            <p:cNvPr id="193" name="组合 32"/>
            <p:cNvGrpSpPr/>
            <p:nvPr/>
          </p:nvGrpSpPr>
          <p:grpSpPr>
            <a:xfrm>
              <a:off x="407880" y="1844640"/>
              <a:ext cx="2792160" cy="2754360"/>
              <a:chOff x="407880" y="1844640"/>
              <a:chExt cx="2792160" cy="2754360"/>
            </a:xfrm>
          </p:grpSpPr>
          <p:sp>
            <p:nvSpPr>
              <p:cNvPr id="194" name="TextBox 14"/>
              <p:cNvSpPr/>
              <p:nvPr/>
            </p:nvSpPr>
            <p:spPr>
              <a:xfrm>
                <a:off x="1644120" y="18446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Box 16"/>
              <p:cNvSpPr/>
              <p:nvPr/>
            </p:nvSpPr>
            <p:spPr>
              <a:xfrm>
                <a:off x="407880" y="26791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18"/>
              <p:cNvSpPr/>
              <p:nvPr/>
            </p:nvSpPr>
            <p:spPr>
              <a:xfrm>
                <a:off x="2799720" y="25502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直接连接符 20"/>
              <p:cNvSpPr/>
              <p:nvPr/>
            </p:nvSpPr>
            <p:spPr>
              <a:xfrm flipH="1">
                <a:off x="1834920" y="2306160"/>
                <a:ext cx="108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接连接符 23"/>
              <p:cNvSpPr/>
              <p:nvPr/>
            </p:nvSpPr>
            <p:spPr>
              <a:xfrm flipH="1">
                <a:off x="1762560" y="2306160"/>
                <a:ext cx="13320" cy="2231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组合 30"/>
              <p:cNvGrpSpPr/>
              <p:nvPr/>
            </p:nvGrpSpPr>
            <p:grpSpPr>
              <a:xfrm>
                <a:off x="754560" y="2276640"/>
                <a:ext cx="2045520" cy="2322360"/>
                <a:chOff x="754560" y="2276640"/>
                <a:chExt cx="2045520" cy="2322360"/>
              </a:xfrm>
            </p:grpSpPr>
            <p:sp>
              <p:nvSpPr>
                <p:cNvPr id="200" name="任意多边形 13"/>
                <p:cNvSpPr/>
                <p:nvPr/>
              </p:nvSpPr>
              <p:spPr>
                <a:xfrm>
                  <a:off x="754560" y="2276640"/>
                  <a:ext cx="2032560" cy="2322360"/>
                </a:xfrm>
                <a:custGeom>
                  <a:avLst/>
                  <a:gdLst/>
                  <a:ahLst/>
                  <a:rect l="l" t="t" r="r" b="b"/>
                  <a:pathLst>
                    <a:path w="2032000" h="2322286">
                      <a:moveTo>
                        <a:pt x="1030514" y="0"/>
                      </a:moveTo>
                      <a:lnTo>
                        <a:pt x="0" y="609600"/>
                      </a:lnTo>
                      <a:lnTo>
                        <a:pt x="1030514" y="2322286"/>
                      </a:lnTo>
                      <a:lnTo>
                        <a:pt x="2032000" y="522514"/>
                      </a:lnTo>
                      <a:lnTo>
                        <a:pt x="1030514" y="0"/>
                      </a:lnTo>
                      <a:close/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矩形 27"/>
                <p:cNvSpPr/>
                <p:nvPr/>
              </p:nvSpPr>
              <p:spPr>
                <a:xfrm rot="3462000">
                  <a:off x="787680" y="2835720"/>
                  <a:ext cx="198720" cy="186120"/>
                </a:xfrm>
                <a:prstGeom prst="rect">
                  <a:avLst/>
                </a:prstGeom>
                <a:solidFill>
                  <a:srgbClr val="bbe0e3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矩形 29"/>
                <p:cNvSpPr/>
                <p:nvPr/>
              </p:nvSpPr>
              <p:spPr>
                <a:xfrm rot="18078600">
                  <a:off x="2600640" y="2739960"/>
                  <a:ext cx="153720" cy="192960"/>
                </a:xfrm>
                <a:prstGeom prst="rect">
                  <a:avLst/>
                </a:prstGeom>
                <a:solidFill>
                  <a:srgbClr val="bbe0e3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3" name="直接连接符 34"/>
            <p:cNvSpPr/>
            <p:nvPr/>
          </p:nvSpPr>
          <p:spPr>
            <a:xfrm>
              <a:off x="1785600" y="2276640"/>
              <a:ext cx="0" cy="232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6-08-25T19:11:41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